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Helvetica Neue"/>
              </a:rPr>
              <a:t>Click to edit the notes format</a:t>
            </a:r>
            <a:endParaRPr b="0" lang="en-US" sz="2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9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AFD4-6408-4FF1-BD6F-7E1B2B4D3A1A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9EEC-0641-44B6-9E25-EE4528330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D373-D254-408B-8DD5-8FF6D3F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A0F5-05F0-4D8D-9649-1C84B4E82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D8E-2588-4774-B0EA-ABA496B1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4C63-8F4B-4739-9F34-91E174C1D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470B-9009-4AB1-8924-535C73F9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30BB-ADB6-4BF0-980B-330C25B68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BEA-20C2-4259-8EE6-57CAC270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3AE4-0A7A-412C-BADF-2A345B246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777B-53F6-4B0A-8F63-1FEAE596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4B08-2668-432C-A0C0-0F6E5AD7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FFC-4B30-43D0-A8C1-26E3BBC5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94A8F-C252-4646-A797-F67E16259A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here is a connectivity to access router/gatewa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if failed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-register if do not receive the success notification from the remote hub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</a:t>
            </a: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066680" indent="-1522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76440" indent="-2192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pagat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80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6553080" y="6415560"/>
            <a:ext cx="2133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3941640" y="1066680"/>
            <a:ext cx="275760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6781680" y="1295280"/>
            <a:ext cx="1828800" cy="53352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utoShape 5"/>
          <p:cNvSpPr/>
          <p:nvPr/>
        </p:nvSpPr>
        <p:spPr>
          <a:xfrm flipV="1">
            <a:off x="4583160" y="1598040"/>
            <a:ext cx="2220840" cy="1220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8033" y="0"/>
                </a:moveTo>
                <a:lnTo>
                  <a:pt x="0" y="0"/>
                </a:lnTo>
                <a:lnTo>
                  <a:pt x="0" y="21600"/>
                </a:lnTo>
                <a:lnTo>
                  <a:pt x="21600" y="21600"/>
                </a:lnTo>
              </a:path>
            </a:pathLst>
          </a:custGeom>
          <a:noFill/>
          <a:ln w="28440">
            <a:solidFill>
              <a:srgbClr val="008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581280" y="2754360"/>
            <a:ext cx="1828800" cy="64620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393696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  <a:ea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Line 7"/>
          <p:cNvSpPr/>
          <p:nvPr/>
        </p:nvSpPr>
        <p:spPr>
          <a:xfrm flipV="1">
            <a:off x="4648320" y="4037040"/>
            <a:ext cx="0" cy="144792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" name="Group 8"/>
          <p:cNvGrpSpPr/>
          <p:nvPr/>
        </p:nvGrpSpPr>
        <p:grpSpPr>
          <a:xfrm>
            <a:off x="1141560" y="5562720"/>
            <a:ext cx="849240" cy="609480"/>
            <a:chOff x="1141560" y="5562720"/>
            <a:chExt cx="849240" cy="609480"/>
          </a:xfrm>
        </p:grpSpPr>
        <p:sp>
          <p:nvSpPr>
            <p:cNvPr id="58" name="AutoShape 9"/>
            <p:cNvSpPr/>
            <p:nvPr/>
          </p:nvSpPr>
          <p:spPr>
            <a:xfrm>
              <a:off x="1141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Rectangle 10"/>
            <p:cNvSpPr/>
            <p:nvPr/>
          </p:nvSpPr>
          <p:spPr>
            <a:xfrm>
              <a:off x="1262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" name="Group 11"/>
          <p:cNvGrpSpPr/>
          <p:nvPr/>
        </p:nvGrpSpPr>
        <p:grpSpPr>
          <a:xfrm>
            <a:off x="4189320" y="5562720"/>
            <a:ext cx="849240" cy="609480"/>
            <a:chOff x="4189320" y="5562720"/>
            <a:chExt cx="849240" cy="609480"/>
          </a:xfrm>
        </p:grpSpPr>
        <p:sp>
          <p:nvSpPr>
            <p:cNvPr id="61" name="AutoShape 12"/>
            <p:cNvSpPr/>
            <p:nvPr/>
          </p:nvSpPr>
          <p:spPr>
            <a:xfrm>
              <a:off x="418932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Rectangle 13"/>
            <p:cNvSpPr/>
            <p:nvPr/>
          </p:nvSpPr>
          <p:spPr>
            <a:xfrm>
              <a:off x="431064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" name="Group 14"/>
          <p:cNvGrpSpPr/>
          <p:nvPr/>
        </p:nvGrpSpPr>
        <p:grpSpPr>
          <a:xfrm>
            <a:off x="6856560" y="5562720"/>
            <a:ext cx="849240" cy="609480"/>
            <a:chOff x="6856560" y="5562720"/>
            <a:chExt cx="849240" cy="609480"/>
          </a:xfrm>
        </p:grpSpPr>
        <p:sp>
          <p:nvSpPr>
            <p:cNvPr id="64" name="AutoShape 15"/>
            <p:cNvSpPr/>
            <p:nvPr/>
          </p:nvSpPr>
          <p:spPr>
            <a:xfrm>
              <a:off x="6856560" y="5562720"/>
              <a:ext cx="849240" cy="609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3879" y="0"/>
                  </a:moveTo>
                  <a:lnTo>
                    <a:pt x="0" y="10800"/>
                  </a:lnTo>
                  <a:lnTo>
                    <a:pt x="3879" y="21600"/>
                  </a:lnTo>
                  <a:lnTo>
                    <a:pt x="17721" y="21600"/>
                  </a:lnTo>
                  <a:lnTo>
                    <a:pt x="21600" y="10800"/>
                  </a:lnTo>
                  <a:lnTo>
                    <a:pt x="17721" y="0"/>
                  </a:lnTo>
                  <a:lnTo>
                    <a:pt x="3879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Rectangle 16"/>
            <p:cNvSpPr/>
            <p:nvPr/>
          </p:nvSpPr>
          <p:spPr>
            <a:xfrm>
              <a:off x="6977880" y="5757480"/>
              <a:ext cx="6062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rebuchet MS"/>
                  <a:ea typeface="Trebuchet MS"/>
                </a:rPr>
                <a:t>App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Line 17"/>
          <p:cNvSpPr/>
          <p:nvPr/>
        </p:nvSpPr>
        <p:spPr>
          <a:xfrm flipH="1" flipV="1">
            <a:off x="5334120" y="4037040"/>
            <a:ext cx="16761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Line 18"/>
          <p:cNvSpPr/>
          <p:nvPr/>
        </p:nvSpPr>
        <p:spPr>
          <a:xfrm flipV="1">
            <a:off x="1839960" y="4037040"/>
            <a:ext cx="1893960" cy="1525680"/>
          </a:xfrm>
          <a:prstGeom prst="line">
            <a:avLst/>
          </a:prstGeom>
          <a:ln w="284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19"/>
          <p:cNvSpPr/>
          <p:nvPr/>
        </p:nvSpPr>
        <p:spPr>
          <a:xfrm>
            <a:off x="63504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0"/>
          <p:cNvSpPr/>
          <p:nvPr/>
        </p:nvSpPr>
        <p:spPr>
          <a:xfrm>
            <a:off x="3429000" y="4800600"/>
            <a:ext cx="220968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1"/>
          <p:cNvSpPr/>
          <p:nvPr/>
        </p:nvSpPr>
        <p:spPr>
          <a:xfrm>
            <a:off x="2743200" y="3668760"/>
            <a:ext cx="3238560" cy="2746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2"/>
          <p:cNvSpPr/>
          <p:nvPr/>
        </p:nvSpPr>
        <p:spPr>
          <a:xfrm>
            <a:off x="5867280" y="4800600"/>
            <a:ext cx="2590920" cy="4266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2819520" y="1868400"/>
            <a:ext cx="3581280" cy="5490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8360" indent="-198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711360" indent="-258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090440" indent="-1854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  <a:tab algn="l" pos="9501120"/>
                <a:tab algn="l" pos="99536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4"/>
          <p:cNvSpPr/>
          <p:nvPr/>
        </p:nvSpPr>
        <p:spPr>
          <a:xfrm>
            <a:off x="5562720" y="4800600"/>
            <a:ext cx="533160" cy="988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434"/>
                  <a:pt x="10800" y="969"/>
                </a:cubicBezTo>
                <a:lnTo>
                  <a:pt x="10800" y="9831"/>
                </a:lnTo>
                <a:cubicBezTo>
                  <a:pt x="10800" y="10366"/>
                  <a:pt x="15635" y="10800"/>
                  <a:pt x="21600" y="10800"/>
                </a:cubicBezTo>
                <a:cubicBezTo>
                  <a:pt x="15635" y="10800"/>
                  <a:pt x="10800" y="11234"/>
                  <a:pt x="10800" y="11769"/>
                </a:cubicBezTo>
                <a:lnTo>
                  <a:pt x="10800" y="20631"/>
                </a:lnTo>
                <a:cubicBezTo>
                  <a:pt x="10800" y="21166"/>
                  <a:pt x="5965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round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宋体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fter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any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宋体"/>
              </a:rPr>
              <a:t>prefix registration for prefix &lt;P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“/localhost”.isPrefixOf(&lt;P&gt;) or no connection to gateway hu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keys, namespaces) &lt;- enumerate keys NRD ow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each key defines “namespace” it us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we define the following convention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宋体"/>
              </a:rPr>
              <a:t>namespace:  /&lt;..1..&gt;/&lt;..2..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(&lt;KEY&gt;, &lt;PREFIX&gt;) &lt;- longest prefix match on key namespaces for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if nothing found, 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if &lt;PREIFX&gt; already register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top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end localhop registration fo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sign with &lt;KEY&gt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schedule registration refresh for &lt;PREFIX&gt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宋体"/>
              </a:rPr>
              <a:t>add &lt;PREFIX&gt; to the registered prefix set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3BCC-84B3-4E1C-90AB-4B784069EDD5}" type="slidenum">
              <a:rPr b="0" lang="en-US" sz="1600" spc="-1" strike="noStrike">
                <a:solidFill>
                  <a:srgbClr val="7f7f7f"/>
                </a:solidFill>
                <a:latin typeface="Calibri"/>
                <a:ea typeface="宋体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hecking whether connected to hu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will rely on naming conven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localhop/&lt;site&gt;/nf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ndn/edu/ucl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localhop/org/caida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f “/localhop/&lt;site&gt;/nfd” route exists in RIB, then we are connected to one or more hub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1: only /localhop/nf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only one hub or requires broadcast strategy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ase 2: all varia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xplicit name of the hub in the nam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tries registere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tomatically with ndn-auto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anuall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nding remote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r each found /localhop/&lt;site&gt;/nfd en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registration for prefix &lt;P&gt; is in progress for localhop entry &lt;E&g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nd /localhop/&lt;site&gt;/nfd/rib/register/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error or timeout (4s), ret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 5 retries (configurable paramet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alibri"/>
              </a:rPr>
              <a:t>Only /localhop/nfd in phas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06440"/>
                <a:tab algn="l" pos="812880"/>
                <a:tab algn="l" pos="1219320"/>
                <a:tab algn="l" pos="1625760"/>
                <a:tab algn="l" pos="2031840"/>
                <a:tab algn="l" pos="2438280"/>
                <a:tab algn="l" pos="2844720"/>
                <a:tab algn="l" pos="3251160"/>
                <a:tab algn="l" pos="3657600"/>
                <a:tab algn="l" pos="4064040"/>
                <a:tab algn="l" pos="4470480"/>
                <a:tab algn="l" pos="4876920"/>
                <a:tab algn="l" pos="5283360"/>
                <a:tab algn="l" pos="5689440"/>
                <a:tab algn="l" pos="6095880"/>
                <a:tab algn="l" pos="6502320"/>
                <a:tab algn="l" pos="6908760"/>
                <a:tab algn="l" pos="7315200"/>
                <a:tab algn="l" pos="7721640"/>
                <a:tab algn="l" pos="81280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 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60200" indent="-160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41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7800" indent="-307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38120"/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/localhost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isPrefixOf(&lt;P&gt;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1" marL="833400" indent="-395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876240"/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5740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14360"/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3" marL="1546200" indent="-2300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752480"/>
                <a:tab algn="l" pos="2190600"/>
                <a:tab algn="l" pos="2629080"/>
                <a:tab algn="l" pos="3067200"/>
                <a:tab algn="l" pos="3505320"/>
                <a:tab algn="l" pos="3943440"/>
                <a:tab algn="l" pos="4381560"/>
                <a:tab algn="l" pos="4819680"/>
                <a:tab algn="l" pos="5257800"/>
                <a:tab algn="l" pos="5695920"/>
                <a:tab algn="l" pos="6134040"/>
                <a:tab algn="l" pos="6572160"/>
                <a:tab algn="l" pos="7010280"/>
                <a:tab algn="l" pos="7448400"/>
                <a:tab algn="l" pos="7886880"/>
                <a:tab algn="l" pos="8325000"/>
                <a:tab algn="l" pos="8763120"/>
                <a:tab algn="l" pos="9201240"/>
                <a:tab algn="l" pos="9639360"/>
                <a:tab algn="l" pos="100774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6553080" y="6445800"/>
            <a:ext cx="2133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Afanasyev</cp:lastModifiedBy>
  <dcterms:modified xsi:type="dcterms:W3CDTF">2014-10-20T14:35:19Z</dcterms:modified>
  <cp:revision>15</cp:revision>
  <dc:subject/>
  <dc:title>Remote Prefix Registration</dc:title>
</cp:coreProperties>
</file>